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59EE-A15D-4915-9669-6BB777A70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8F55-1D0F-4CC0-9CCB-7A8B4EB89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D6AF-D051-4D90-9F88-CEF223419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6673-1E83-4316-B152-0BA40E5A3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2177-B1D7-4738-80D7-DB08A6518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FE8A-3D00-42D9-9147-F9FD8F23D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B9E1-90C8-466B-80D5-7A9C261AC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8730-6C8D-437C-B985-122AE78F0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9678-FA78-4AE9-A4F7-D20C13CFB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3FA7-48AC-4331-9FD7-1879E68E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7312-B984-4DA0-B1DE-A4A24F420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8AD7-95BC-416B-9A26-F59635A22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D4C8B-EB42-4C86-AB5B-AC54273D99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00280" y="250920"/>
            <a:ext cx="31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Prepos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33360" y="684360"/>
            <a:ext cx="6120000" cy="1280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Verdana"/>
              </a:rPr>
              <a:t>Pl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aris          school         work        the airport         the gar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roof           bed            the office           a party      a muse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floor    the mountains    a bus     a table      a bike         a c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04640" y="2124000"/>
          <a:ext cx="6048720" cy="2087280"/>
        </p:xfrm>
        <a:graphic>
          <a:graphicData uri="http://schemas.openxmlformats.org/drawingml/2006/table">
            <a:tbl>
              <a:tblPr/>
              <a:tblGrid>
                <a:gridCol w="2016360"/>
                <a:gridCol w="2016000"/>
                <a:gridCol w="2016360"/>
              </a:tblGrid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404640" y="4572000"/>
            <a:ext cx="6048720" cy="1280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004            March              March 1st              Tuesday        the mo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inter      the weekend       half past two         Christmas       the afterno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hristmas Day             6 o’clock            night                 the seven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76280" y="6227640"/>
          <a:ext cx="6048360" cy="2087280"/>
        </p:xfrm>
        <a:graphic>
          <a:graphicData uri="http://schemas.openxmlformats.org/drawingml/2006/table">
            <a:tbl>
              <a:tblPr/>
              <a:tblGrid>
                <a:gridCol w="2016000"/>
                <a:gridCol w="2016000"/>
                <a:gridCol w="2016360"/>
              </a:tblGrid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6T08:42:46Z</dcterms:created>
  <dc:creator>Michael</dc:creator>
  <dc:description/>
  <dc:language>en-US</dc:language>
  <cp:lastModifiedBy>Michael</cp:lastModifiedBy>
  <dcterms:modified xsi:type="dcterms:W3CDTF">2011-04-26T08:43:39Z</dcterms:modified>
  <cp:revision>1</cp:revision>
  <dc:subject/>
  <dc:title>Slide 1</dc:title>
</cp:coreProperties>
</file>